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E18-5521-4A53-9A65-C402AB90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A8B1-2133-4CC7-A7AF-323B7A8C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665-2EEB-4A0A-AF2B-7DB0CB04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4B9-04EE-4A6A-9923-ED95215F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E2A-6819-489E-B16A-43B41ACB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75B-E02F-45D5-886F-95F4641C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ECC-A907-4D47-A897-6A627E73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428-5341-4AEA-A04D-16CDB718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CD5-15AF-4323-B48E-CE5F2C71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EEA-8D3F-41A2-9ED8-9C743F7C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922-D171-4DFE-960E-79645AEA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AFA-1DDD-4326-8AAD-F0E8F932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4D52-92BF-49C1-9A81-E77E27E30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 set us free from be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.  He was a very good presid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40845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 was the first president  of the United States.  George Washington was a very great man.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25909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6:34:21Z</dcterms:created>
  <dc:creator>smuser</dc:creator>
  <dc:description/>
  <dc:language>en-US</dc:language>
  <cp:lastModifiedBy>smuser</cp:lastModifiedBy>
  <dcterms:modified xsi:type="dcterms:W3CDTF">2010-01-11T17:00:13Z</dcterms:modified>
  <cp:revision>2</cp:revision>
  <dc:subject/>
  <dc:title>Comparing Presidents</dc:title>
</cp:coreProperties>
</file>